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A68-6EE7-4F5F-9F15-F4E59825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86B-23CB-4A49-ACD0-B99C448B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A26-8E17-4AA5-A5DB-E82A0DB6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2FD-4F85-4EA3-985D-760D5CAB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9CE0-9394-4A15-B83F-E5CA9DCB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E5BC-0214-4650-9245-D49CFD42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1650-686B-421E-BFAA-17697A37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576C-8069-4B5B-AAC6-90995A48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3F46-7C65-4950-B83E-27ED222A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235E-6E04-4D58-ABEC-1554045F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2407-D3F0-431A-912C-344F0378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751-1E78-47B3-BF5A-0F498D46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8AF1-C812-42A7-825B-4B4D661D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6B03-DD85-4339-B70C-63A03C2E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A6C2-93CF-4BE4-BAEF-46BE931D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1299-21BA-4327-B0C7-A63BC321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451D-C756-4E35-88E0-580D4C05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370-13CE-4AFC-B70B-8101760E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14A-D3C0-4C7E-BA44-4358BA54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BCF-A3A2-48C2-9D74-C5F1C9A2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FCB-1FD6-4214-A91C-B200A640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782-F8A0-41AB-8EDF-C8F8A6BD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6BD-803E-406D-8DB3-26418144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853-4A82-4BC9-9E90-21A08B15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517F-9178-49FF-919B-8492172F6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8739-DC43-469D-BB6A-D6F3C140A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fzibran@ucalgary.ca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PSC 203 Tutori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ction: T2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days and Wednes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:00 PM – 12:50 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: MS 236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ching Assist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hi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D student, Dept. of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mfzibran@ucalgary.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: www.ucalgary.ca/~mf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T Hour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ednesday, 4:00 PM- 6:0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oom: MS 23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Dates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Lab Quizz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eb: MS Excel Spreadsh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rch: MS Access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rch: Problem Sol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pril: Design Ski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 Take Home Assign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 1: Out: Jan 21 2009, Due: Feb 23 2009, 11:59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 2: Out: Mar 09 2009, Due: April 03 2009, 11:59P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 Term Project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done in the wik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: Mar 09 2009, Oral Presentation: April 06 2009 to April 16 2009, Wiki Part Due: April 17 2009, 11:59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Link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Wik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470160">
              <a:spcBef>
                <a:spcPts val="499"/>
              </a:spcBef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torial-22 TA wik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/CPSC203_Template_People/Fahim_Zibr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3:47:13Z</dcterms:created>
  <dc:creator>Fahim</dc:creator>
  <dc:description/>
  <dc:language>en-US</dc:language>
  <cp:lastModifiedBy>Information Technologies</cp:lastModifiedBy>
  <dcterms:modified xsi:type="dcterms:W3CDTF">2009-01-19T19:14:10Z</dcterms:modified>
  <cp:revision>19</cp:revision>
  <dc:subject/>
  <dc:title>CPSC 203 Tutorial Section: T32</dc:title>
</cp:coreProperties>
</file>